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D26-47FF-4D7A-B8BA-C0404B66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FC0-EB72-46F3-95E8-75496E76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3BF-85F6-48DC-A97F-B98BC9D9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F7E-3626-4862-9C77-2F1E6848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89B0-FAFB-4859-B4DB-1B4955FC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3081-4F7E-48C4-AC96-EC620C6F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9B06-786E-4D3E-936E-3454358F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D8F3-E813-4476-AF14-404D1D8F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4FB8-C266-4A55-A16F-C8F44D8F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4DC5-EE32-470F-B269-19C2A99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89BE-6FEA-4BB5-8728-FCFBBF1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625-69F3-4F31-9314-AD0F91C4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7BB5-ED3E-47BD-A34A-FB9BABFF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1134-EEDF-45C3-9C73-6A4606A8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5F40-630F-49D4-9982-6428F508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035F-527D-4FE0-9537-6411D736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F64-20DD-4D0F-B449-73B3CC7C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09BC-A099-4F91-BB59-C65330F0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A201-5BA1-46BF-A71C-B35748FC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220C-2660-4C03-ACBD-B9F53841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E613-25E9-4753-A37F-84F3E8A4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3905-F809-455B-9C42-B0FE989C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A11-F889-4E35-83D9-DE88FC7D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4AC7-D8F0-4AB5-8C83-E800A4D0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8DB5-FC33-40BE-AC37-58930272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C7C8-8CAD-45D2-9E44-26CE567D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8AF3-FDAF-46B4-B515-F52EC53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4826-AAE3-4FFA-AD91-8C771A02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AEF6-E90F-49FA-AE95-A2F42FBC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2AD1C-1D03-4DF9-B3C4-59A8B4D9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326A3-3901-4A31-AA8D-37D1B8BF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C37D5-4910-4830-9AB7-2628C2DC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52EB-123C-4E12-95DF-923A2F6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29C-E722-46E7-8AB1-0E146E9D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96CD-6276-4697-864E-A4A1F6EF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9848C-9C3B-4DCE-9889-E60F2B11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A4E78-2675-401B-A9B4-8183A218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1640-9328-4743-A87C-DA89030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00028-AF8B-4823-BFD9-62D6D8A4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B2CE-B3D4-4A23-9AE4-02C122BA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BD68-B90D-44A8-A5FA-E423A7F1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E53E-7BFE-40DC-B12A-EC083B7D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65C30-F4EE-4DED-AE06-E5FDEE81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73E9-1B5A-4C0C-89E6-A7F6096B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9F3-C67D-4C7C-8E88-19FAB10B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CB1C-85D1-46EC-9372-78071876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1E1E4-58F7-43D4-8D51-E92B025B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84D02-3186-4D45-895A-03DCFDA1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5CB5B-A4F9-4B3C-8C9A-0695D971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814C2-0E1D-4383-ACB2-AF05F34A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1021-A8C4-4AA5-9911-1D1FAC8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494CC-537B-4F02-95BB-8DAC6FE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BA5FC-2822-4833-B167-9DA1C46D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0AAFC-DAB0-48D2-9A22-45D664ED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C5AB8-18B8-4BA4-BDC8-4FFC1F95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BAC-3BAC-41D3-9637-FCC0401F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DDCA-00FC-4421-A9E8-30B5FFF7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94C0-864D-448A-B668-9A575C6B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26990-A038-469F-8CDA-63DD5E42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9F61C-AD23-4024-8D33-468DD8E3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4CE34-2292-4ADA-A086-48F9F756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C7E7-DCF4-4FE9-A723-E0C99722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BC98B-2940-43B5-8684-2ADB1237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CC492-614C-4EF3-922B-1674E4D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2857D-0084-4064-9A50-16793EC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E89E-C327-4F22-8A23-D356C230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816-C882-4E03-926F-3F5178B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B6326-E329-4296-B1CA-18D6FFC2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15AF-D85F-4ECC-AC04-B089B6A8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D62C-C590-4469-8646-EB8F097C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F51A8-2222-4B82-B393-0DAC3C17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9048-4FA8-4834-8C81-7B2313B8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4D0EB-35C4-472A-A3DA-C0ABD377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D0CB7-D9C1-4876-863D-AB4AF406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509E-244B-470F-8FD3-DFDEBE7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F7962-E340-4B66-866A-1A373552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C6B5C-C7C3-4949-BC8D-34777499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DE2-FC00-453F-AD19-D20D3DD6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A35F6-397C-4220-81E2-391CAE23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3FCB1-5E49-4F06-90E4-83A78565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FC617-11FF-4D84-8015-02EE528E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A0F9E-4251-450B-9834-C743EBBA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16C71-4D1B-42C3-84B9-1DB14C7B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304C7-1013-469A-865C-939C0ADE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6174C-B24E-4024-9322-4BA85148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7C4E3-816B-4355-9917-91B2BC33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43EF6-8E11-4DB7-A0DB-94AACE39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B7879-5BF9-47CF-8509-A8A3B436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DB9-0525-4E2A-A026-C318526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7AD4B-6F01-4E30-A2AC-B0E2FF64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8724B-D522-4171-94BF-2F6DB65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50E7C-F3D3-4A40-ADEA-38FBC9AD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07F4D-5F42-452A-91E5-D0FA7E42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66B73-C216-43D8-BED1-4D65AC8E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C549A-27E1-4150-83DA-E3651659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987A4-70BD-4564-BCDF-6738C49C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9373-3055-45E9-A50C-49F7AEEE1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8EC8-9A5B-4C42-AB67-75BDC2C11D3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C7DD-256C-439E-94DA-4C7B8721E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7F50-0A6A-4B0C-8A75-1FCB5A942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EB38-F2AF-4F1A-AA47-AC8475556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791D-1697-4147-AF79-070007DF9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780B-82D0-4262-94DD-BE49CD2C5F4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13A7-ACAA-4A11-8C10-F19B1B1C7CA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476280" y="2170080"/>
            <a:ext cx="8313840" cy="184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cut themselves to cope with their problem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utting makes people briefly feel like they can have a handle on life agai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utters often use razors, utility knives, scissors, needles, or anything that can slice their arm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Content Placeholder 4" descr="cutter.jpg"/>
          <p:cNvPicPr/>
          <p:nvPr/>
        </p:nvPicPr>
        <p:blipFill>
          <a:blip r:embed="rId2"/>
          <a:stretch/>
        </p:blipFill>
        <p:spPr>
          <a:xfrm>
            <a:off x="4705200" y="2819520"/>
            <a:ext cx="36388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9240" y="2118240"/>
            <a:ext cx="914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1" name="Picture 2" descr="http://t0.gstatic.com/images?q=tbn:ANd9GcT_UJc6zP-cACW14tnt65SIkMgkIutJ2-L8ayV_fwaLTX1lY3YTELSgT3xi"/>
          <p:cNvPicPr/>
          <p:nvPr/>
        </p:nvPicPr>
        <p:blipFill>
          <a:blip r:embed="rId1"/>
          <a:srcRect l="0" t="45" r="0" b="45"/>
          <a:stretch/>
        </p:blipFill>
        <p:spPr>
          <a:xfrm>
            <a:off x="2362320" y="228600"/>
            <a:ext cx="5491080" cy="41083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ometimes cutters cut themselves in patterns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Unexplained wounds:  the person may have fresh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scars from cuts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Indications of depression:  low mood, tearfulness, lack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of motivation, or loss of energy can be signs of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depression, which can lead to cutting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Frequent “accidents”:  someone who cuts may claim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to be clumsy, in order to explain injuries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Changes in eating habits:  the person may be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secretive about eating or have unusual weight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loss or gain, as eating disorders are often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associated with cutting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Covering up:  the person would wear long sleeves or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pants even during the summer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1: Acknowledge the proble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2: Talk to someone you tru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3: Identify what causes you to cut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rself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4: Recognize that cutting is an attempt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self-sooth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5: Figure out what function the cutting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s serv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ep 6: If you cannot stop cutting alone, get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el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58" name="Content Placeholder 4" descr="cutter.bmp"/>
          <p:cNvPicPr/>
          <p:nvPr/>
        </p:nvPicPr>
        <p:blipFill>
          <a:blip r:embed="rId2"/>
          <a:stretch/>
        </p:blipFill>
        <p:spPr>
          <a:xfrm>
            <a:off x="371520" y="2286000"/>
            <a:ext cx="3338640" cy="2500200"/>
          </a:xfrm>
          <a:prstGeom prst="rect">
            <a:avLst/>
          </a:prstGeom>
          <a:ln w="0">
            <a:noFill/>
          </a:ln>
        </p:spPr>
      </p:pic>
      <p:pic>
        <p:nvPicPr>
          <p:cNvPr id="359" name="Content Placeholder 5" descr="cutter.jpg"/>
          <p:cNvPicPr/>
          <p:nvPr/>
        </p:nvPicPr>
        <p:blipFill>
          <a:blip r:embed="rId3"/>
          <a:stretch/>
        </p:blipFill>
        <p:spPr>
          <a:xfrm>
            <a:off x="4525920" y="2438280"/>
            <a:ext cx="3665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1749600"/>
            <a:ext cx="82425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54:47Z</dcterms:created>
  <dc:creator>vhs</dc:creator>
  <dc:description/>
  <dc:language>en-US</dc:language>
  <cp:lastModifiedBy>VHS</cp:lastModifiedBy>
  <dcterms:modified xsi:type="dcterms:W3CDTF">2010-11-22T20:45:29Z</dcterms:modified>
  <cp:revision>6</cp:revision>
  <dc:subject/>
  <dc:title>The Truth About Cutting</dc:title>
</cp:coreProperties>
</file>